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09C-88D1-4906-B77F-BBE2FD40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5A4-E9E8-4A9F-9D5F-1F85BCE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184-0772-41F2-B968-1D2950FC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2A6-5DCD-47FE-B280-D7FAB7FF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523-6D94-4746-BBC1-9E783BCD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68A-6045-46A5-8347-703ED6F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EF2-CA14-4FD6-A68D-3FB8F008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0B6-1B1A-4D73-AA3C-288E9AEA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797-232E-4EF6-8352-1AAB06B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605-C01D-4459-8226-1DED15CA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985-1177-47FD-8BDE-043D55CA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7CC-07AB-4628-AEFD-520AD8F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DC1-CE9E-4D7C-9BB8-90B9132D9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789465205/ref=sib_dp_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search.barnesandnoble.com/booksearch/imageviewer.asp?ean=9780736826174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amazon.com/gp/product/images/079225936X/sr=1-1/qid=1253050748/ref=dp_image_0?ie=UTF8&amp;n=283155&amp;s=books&amp;qid=1253050748&amp;sr=1-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756614961/ref=sib_dp_pt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man Old Style"/>
              </a:rPr>
              <a:t>Non-Fiction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st the fac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xpository text is text that explains some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ncludes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y include dates, timelines, charts or grap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ntains Non-Fiction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able of content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Bolded w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Headin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Ma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ub headin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Tim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Ca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harts or Graph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Types of 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agazine Arti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Newspaper Arti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Fl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dito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Newslet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Pamphl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Diction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ncyclope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4419720" y="1600200"/>
            <a:ext cx="39621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Billbo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dvertis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Web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Broch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Reci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e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Big Book of Bu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200400"/>
            <a:ext cx="3200400" cy="335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amples of 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Matter by Christine Webster: Book C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371600"/>
            <a:ext cx="2743200" cy="27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ational Geographic Encyclopedia of Animals">
            <a:hlinkClick r:id="rId5"/>
          </p:cNvPr>
          <p:cNvPicPr/>
          <p:nvPr/>
        </p:nvPicPr>
        <p:blipFill>
          <a:blip r:embed="rId6"/>
          <a:srcRect l="11118" t="0" r="13339" b="0"/>
          <a:stretch/>
        </p:blipFill>
        <p:spPr>
          <a:xfrm>
            <a:off x="5867280" y="129528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419112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Can you find ex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Biographies and Autobiogra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xt that tells about someone’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cludes facts about that per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ay include dates and time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- someone else writes about another person’s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- someone writes about their ow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anor Roosevelt (DK Biography)">
            <a:hlinkClick r:id="rId1"/>
          </p:cNvPr>
          <p:cNvPicPr/>
          <p:nvPr/>
        </p:nvPicPr>
        <p:blipFill>
          <a:blip r:embed="rId2"/>
          <a:srcRect l="20000" t="13339" r="23339" b="0"/>
          <a:stretch/>
        </p:blipFill>
        <p:spPr>
          <a:xfrm>
            <a:off x="6324480" y="1752480"/>
            <a:ext cx="2286000" cy="349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Examples of Biographies and Autobiogra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 Picture Book of Davy Crockett (Picture Book Biography)"/>
          <p:cNvPicPr/>
          <p:nvPr/>
        </p:nvPicPr>
        <p:blipFill>
          <a:blip r:embed="rId3"/>
          <a:srcRect l="0" t="0" r="0" b="6661"/>
          <a:stretch/>
        </p:blipFill>
        <p:spPr>
          <a:xfrm>
            <a:off x="2252520" y="1600200"/>
            <a:ext cx="277668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Jammin' with the Jonas Brothers: An Unauthorized Biography"/>
          <p:cNvPicPr/>
          <p:nvPr/>
        </p:nvPicPr>
        <p:blipFill>
          <a:blip r:embed="rId4"/>
          <a:srcRect l="20000" t="13339" r="22220" b="0"/>
          <a:stretch/>
        </p:blipFill>
        <p:spPr>
          <a:xfrm>
            <a:off x="4648320" y="358128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Winners Never Quit!"/>
          <p:cNvPicPr/>
          <p:nvPr/>
        </p:nvPicPr>
        <p:blipFill>
          <a:blip r:embed="rId5"/>
          <a:srcRect l="0" t="13339" r="6661" b="0"/>
          <a:stretch/>
        </p:blipFill>
        <p:spPr>
          <a:xfrm>
            <a:off x="369720" y="4038480"/>
            <a:ext cx="2706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1:29:42Z</dcterms:created>
  <dc:creator>127hollandm</dc:creator>
  <dc:description/>
  <dc:language>en-US</dc:language>
  <cp:lastModifiedBy>127ramirezc</cp:lastModifiedBy>
  <dcterms:modified xsi:type="dcterms:W3CDTF">2009-09-20T23:02:37Z</dcterms:modified>
  <cp:revision>4</cp:revision>
  <dc:subject/>
  <dc:title>Non-Fiction </dc:title>
</cp:coreProperties>
</file>